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0.png" ContentType="image/png"/>
  <Override PartName="/ppt/media/image18.png" ContentType="image/png"/>
  <Override PartName="/ppt/media/voltage.wav" ContentType="audio/x-wav"/>
  <Override PartName="/ppt/media/image3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9.png" ContentType="image/png"/>
  <Override PartName="/ppt/media/image40.png" ContentType="image/png"/>
  <Override PartName="/ppt/media/image42.png" ContentType="image/png"/>
  <Override PartName="/ppt/media/image44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7.png" ContentType="image/png"/>
  <Override PartName="/ppt/media/image10.png" ContentType="image/png"/>
  <Override PartName="/ppt/media/image43.jpeg" ContentType="image/jpe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AAA1-DE14-4E40-B5E3-824F76E3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F030-5183-4DF3-9246-16D78C63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6E12-8D55-43BB-8457-8202B623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34A7-B941-4C87-9542-630C9C60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0E12-46CD-4715-8BFF-46CC3FEB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2C9F-43ED-4778-BEC6-31B37249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9B11-02F9-4A8A-B291-75F4F5AD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13AB-BC8C-4262-A562-9963DFDA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B1C2-6EB5-4E97-B272-0B53E01A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3545-232A-4743-8A4E-4AA7025A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BDF5-FC40-4C66-AF18-C3353050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EBBB-534F-40EC-8FBF-0244B20F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BD8E-7CC6-4CF2-9CE6-6FB4ADD48D2A}" type="slidenum">
              <a:rPr b="0" lang="kk-KZ" sz="9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audio" Target="../media/voltage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audio" Target="../media/voltage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image" Target="../media/image36.png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1.png"/><Relationship Id="rId3" Type="http://schemas.openxmlformats.org/officeDocument/2006/relationships/image" Target="../media/image38.jpeg"/><Relationship Id="rId4" Type="http://schemas.openxmlformats.org/officeDocument/2006/relationships/image" Target="../media/image38.jpeg"/><Relationship Id="rId5" Type="http://schemas.openxmlformats.org/officeDocument/2006/relationships/image" Target="../media/image26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audio" Target="../media/voltage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image" Target="../media/image45.jpeg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"/>
          <p:cNvPicPr/>
          <p:nvPr/>
        </p:nvPicPr>
        <p:blipFill>
          <a:blip r:embed="rId1"/>
          <a:srcRect l="0" t="6326" r="0" b="54656"/>
          <a:stretch/>
        </p:blipFill>
        <p:spPr>
          <a:xfrm>
            <a:off x="395280" y="1989000"/>
            <a:ext cx="8053560" cy="2880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971640" y="40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хнологический процесс изготовления  детали «Пале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971640" y="1197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детал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5148360" y="1197000"/>
            <a:ext cx="31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заготов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2" name="volt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1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788000" y="1773360"/>
            <a:ext cx="1431720" cy="954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1673280" y="2602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70000" y="907920"/>
          <a:ext cx="8567640" cy="5168880"/>
        </p:xfrm>
        <a:graphic>
          <a:graphicData uri="http://schemas.openxmlformats.org/drawingml/2006/table">
            <a:tbl>
              <a:tblPr/>
              <a:tblGrid>
                <a:gridCol w="952200"/>
                <a:gridCol w="3332160"/>
                <a:gridCol w="2141640"/>
                <a:gridCol w="214164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ски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струменты и приспособ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лес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рать  заготовку под ключ 17мм, закрепить в тисках, отрезать н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4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нгенциркуль, ножовка по маралу, тески, черти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84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c00000"/>
                          </a:solidFill>
                          <a:uFillTx/>
                          <a:latin typeface="Calibri"/>
                        </a:rPr>
                        <a:t>Установ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Токарно- винторез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Установить закрепить заготовк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одрезать торец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точить поверхность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12 м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 упо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Точить заготовку Ø 12 м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82" name="Рисунок 8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936800" y="3854520"/>
            <a:ext cx="1749240" cy="7318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6" descr=""/>
          <p:cNvPicPr/>
          <p:nvPr/>
        </p:nvPicPr>
        <p:blipFill>
          <a:blip r:embed="rId3"/>
          <a:stretch/>
        </p:blipFill>
        <p:spPr>
          <a:xfrm>
            <a:off x="5091120" y="5024520"/>
            <a:ext cx="1128600" cy="9604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7" descr=""/>
          <p:cNvPicPr/>
          <p:nvPr/>
        </p:nvPicPr>
        <p:blipFill>
          <a:blip r:embed="rId4"/>
          <a:stretch/>
        </p:blipFill>
        <p:spPr>
          <a:xfrm>
            <a:off x="4788000" y="3298680"/>
            <a:ext cx="1585800" cy="11098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8" descr=""/>
          <p:cNvPicPr/>
          <p:nvPr/>
        </p:nvPicPr>
        <p:blipFill>
          <a:blip r:embed="rId5"/>
          <a:stretch/>
        </p:blipFill>
        <p:spPr>
          <a:xfrm>
            <a:off x="1806480" y="5154480"/>
            <a:ext cx="2009880" cy="7192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6" name="voltag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1673280" y="15552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70000" y="765000"/>
          <a:ext cx="8567640" cy="5880240"/>
        </p:xfrm>
        <a:graphic>
          <a:graphicData uri="http://schemas.openxmlformats.org/drawingml/2006/table">
            <a:tbl>
              <a:tblPr/>
              <a:tblGrid>
                <a:gridCol w="952200"/>
                <a:gridCol w="3332160"/>
                <a:gridCol w="2141640"/>
                <a:gridCol w="2141640"/>
              </a:tblGrid>
              <a:tr h="70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 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скиз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менты и приспособл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руд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Точить заготовку Ø 9,8 м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ец отрезн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Снять фаску  2x45° и отрезать заготовку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0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3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лесарна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резать резьбу  М1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ски, плашкодержатель, плашка, штангенцирку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Рисунок 26" descr=""/>
          <p:cNvPicPr/>
          <p:nvPr/>
        </p:nvPicPr>
        <p:blipFill>
          <a:blip r:embed="rId1"/>
          <a:stretch/>
        </p:blipFill>
        <p:spPr>
          <a:xfrm>
            <a:off x="5081760" y="1488960"/>
            <a:ext cx="1128600" cy="9604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908000" y="1706400"/>
            <a:ext cx="1675080" cy="71460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5292720" y="466560"/>
            <a:ext cx="31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должение таблиц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Рисунок 7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1908000" y="3052800"/>
            <a:ext cx="1360800" cy="6192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0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1908000" y="3760920"/>
            <a:ext cx="1187640" cy="5475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"/>
          <p:cNvPicPr/>
          <p:nvPr/>
        </p:nvPicPr>
        <p:blipFill>
          <a:blip r:embed="rId5"/>
          <a:stretch/>
        </p:blipFill>
        <p:spPr>
          <a:xfrm>
            <a:off x="5081760" y="2759040"/>
            <a:ext cx="1128600" cy="6336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"/>
          <p:cNvPicPr/>
          <p:nvPr/>
        </p:nvPicPr>
        <p:blipFill>
          <a:blip r:embed="rId6"/>
          <a:stretch/>
        </p:blipFill>
        <p:spPr>
          <a:xfrm>
            <a:off x="4951440" y="3535200"/>
            <a:ext cx="1388880" cy="793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1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3268800" y="4535640"/>
            <a:ext cx="942840" cy="14572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4" descr=""/>
          <p:cNvPicPr/>
          <p:nvPr/>
        </p:nvPicPr>
        <p:blipFill>
          <a:blip r:embed="rId8"/>
          <a:stretch/>
        </p:blipFill>
        <p:spPr>
          <a:xfrm>
            <a:off x="4795920" y="5002200"/>
            <a:ext cx="1700280" cy="93816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9" name="voltag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1673280" y="1270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70000" y="965160"/>
          <a:ext cx="8567640" cy="5559480"/>
        </p:xfrm>
        <a:graphic>
          <a:graphicData uri="http://schemas.openxmlformats.org/drawingml/2006/table">
            <a:tbl>
              <a:tblPr/>
              <a:tblGrid>
                <a:gridCol w="952200"/>
                <a:gridCol w="3332160"/>
                <a:gridCol w="2141640"/>
                <a:gridCol w="2141640"/>
              </a:tblGrid>
              <a:tr h="70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 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скиз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менты, приспособления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руд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Точить заготовку Ø 9,8 м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Точить фаску  2x45° и   нарезать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ьбу  М 10 на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Отрезать  заготовку  м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плашка и плашкодержате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Рисунок 26" descr=""/>
          <p:cNvPicPr/>
          <p:nvPr/>
        </p:nvPicPr>
        <p:blipFill>
          <a:blip r:embed="rId1"/>
          <a:stretch/>
        </p:blipFill>
        <p:spPr>
          <a:xfrm>
            <a:off x="5087880" y="1690560"/>
            <a:ext cx="1128600" cy="9622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947960" y="1914480"/>
            <a:ext cx="1674720" cy="7146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684360" y="503280"/>
            <a:ext cx="799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Verdana"/>
              </a:rPr>
              <a:t>Продолжение таблицы второй способ нарезания резьбы при изготовлении бол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Рисунок 7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1833480" y="3219480"/>
            <a:ext cx="1360440" cy="6318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0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1919160" y="5262480"/>
            <a:ext cx="1487520" cy="636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6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4954680" y="3008160"/>
            <a:ext cx="1127160" cy="6336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1" descr=""/>
          <p:cNvPicPr/>
          <p:nvPr/>
        </p:nvPicPr>
        <p:blipFill>
          <a:blip r:embed="rId6">
            <a:biLevel thresh="50000"/>
          </a:blip>
          <a:stretch/>
        </p:blipFill>
        <p:spPr>
          <a:xfrm>
            <a:off x="5189400" y="3664080"/>
            <a:ext cx="827280" cy="9968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2" descr="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1758960" y="3898800"/>
            <a:ext cx="1362240" cy="7383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4" descr=""/>
          <p:cNvPicPr/>
          <p:nvPr/>
        </p:nvPicPr>
        <p:blipFill>
          <a:blip r:embed="rId8">
            <a:biLevel thresh="50000"/>
          </a:blip>
          <a:stretch/>
        </p:blipFill>
        <p:spPr>
          <a:xfrm>
            <a:off x="4583160" y="5060880"/>
            <a:ext cx="2039760" cy="7668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9" name="voltag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2" descr=""/>
          <p:cNvPicPr/>
          <p:nvPr/>
        </p:nvPicPr>
        <p:blipFill>
          <a:blip r:embed="rId1"/>
          <a:srcRect l="1134" t="22379" r="0" b="16077"/>
          <a:stretch/>
        </p:blipFill>
        <p:spPr>
          <a:xfrm>
            <a:off x="2943360" y="4540320"/>
            <a:ext cx="3369960" cy="1800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539640" y="333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хнологический процесс изготовления детали «Гайк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3276720" y="92556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детал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3368520" y="4122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заготов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Рисунок 10" descr=""/>
          <p:cNvPicPr/>
          <p:nvPr/>
        </p:nvPicPr>
        <p:blipFill>
          <a:blip r:embed="rId2"/>
          <a:stretch/>
        </p:blipFill>
        <p:spPr>
          <a:xfrm>
            <a:off x="2913120" y="4559400"/>
            <a:ext cx="1716120" cy="17161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1" descr=""/>
          <p:cNvPicPr/>
          <p:nvPr/>
        </p:nvPicPr>
        <p:blipFill>
          <a:blip r:embed="rId3"/>
          <a:stretch/>
        </p:blipFill>
        <p:spPr>
          <a:xfrm>
            <a:off x="2340000" y="1380960"/>
            <a:ext cx="4248000" cy="256716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4" name="voltag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1673280" y="2602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5280" y="839880"/>
          <a:ext cx="8569440" cy="5145120"/>
        </p:xfrm>
        <a:graphic>
          <a:graphicData uri="http://schemas.openxmlformats.org/drawingml/2006/table">
            <a:tbl>
              <a:tblPr/>
              <a:tblGrid>
                <a:gridCol w="952560"/>
                <a:gridCol w="3332160"/>
                <a:gridCol w="2141640"/>
                <a:gridCol w="2143080"/>
              </a:tblGrid>
              <a:tr h="70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 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скиз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струменты и приспособл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руд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6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 упорны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Точить заготовку Ø 12 м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16" name="Рисунок 8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936800" y="3235320"/>
            <a:ext cx="1749240" cy="7318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6" descr=""/>
          <p:cNvPicPr/>
          <p:nvPr/>
        </p:nvPicPr>
        <p:blipFill>
          <a:blip r:embed="rId2"/>
          <a:stretch/>
        </p:blipFill>
        <p:spPr>
          <a:xfrm>
            <a:off x="5091120" y="5024520"/>
            <a:ext cx="1128600" cy="9604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8" descr=""/>
          <p:cNvPicPr/>
          <p:nvPr/>
        </p:nvPicPr>
        <p:blipFill>
          <a:blip r:embed="rId3"/>
          <a:stretch/>
        </p:blipFill>
        <p:spPr>
          <a:xfrm>
            <a:off x="1806480" y="5154480"/>
            <a:ext cx="2009880" cy="7192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" descr=""/>
          <p:cNvPicPr/>
          <p:nvPr/>
        </p:nvPicPr>
        <p:blipFill>
          <a:blip r:embed="rId4"/>
          <a:stretch/>
        </p:blipFill>
        <p:spPr>
          <a:xfrm>
            <a:off x="5191200" y="1620720"/>
            <a:ext cx="1066680" cy="9511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5" name="voltag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"/>
          <p:cNvSpPr/>
          <p:nvPr/>
        </p:nvSpPr>
        <p:spPr>
          <a:xfrm>
            <a:off x="2124000" y="13500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50920" y="620640"/>
          <a:ext cx="8642160" cy="6016680"/>
        </p:xfrm>
        <a:graphic>
          <a:graphicData uri="http://schemas.openxmlformats.org/drawingml/2006/table">
            <a:tbl>
              <a:tblPr/>
              <a:tblGrid>
                <a:gridCol w="936360"/>
                <a:gridCol w="3168720"/>
                <a:gridCol w="2881440"/>
                <a:gridCol w="165564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ски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менты , приспособ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лес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рать  заготовку под ключ 32 мм, закрепить в тисках, отрезать 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нгенциркуль, ножовка по маралу, тески, черти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c00000"/>
                          </a:solidFill>
                          <a:uFillTx/>
                          <a:latin typeface="Calibri"/>
                        </a:rPr>
                        <a:t>Установ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Токарно- винторез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Установить закрепить заготовк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одрезать торец, снять фас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Сверлить сквозное отверстие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31,4 м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м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 Снять  фаску  2x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Нарезать резьбу М 22 н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мм и отрезать заготовку на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мм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ерло, разверт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чи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Рисунок 4" descr=""/>
          <p:cNvPicPr/>
          <p:nvPr/>
        </p:nvPicPr>
        <p:blipFill>
          <a:blip r:embed="rId1">
            <a:biLevel thresh="50000"/>
          </a:blip>
          <a:srcRect l="51271" t="0" r="0" b="0"/>
          <a:stretch/>
        </p:blipFill>
        <p:spPr>
          <a:xfrm>
            <a:off x="5148360" y="1484280"/>
            <a:ext cx="1079280" cy="8650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1" descr=""/>
          <p:cNvPicPr/>
          <p:nvPr/>
        </p:nvPicPr>
        <p:blipFill>
          <a:blip r:embed="rId2"/>
          <a:srcRect l="56825" t="0" r="0" b="0"/>
          <a:stretch/>
        </p:blipFill>
        <p:spPr>
          <a:xfrm>
            <a:off x="4643280" y="2792520"/>
            <a:ext cx="1008360" cy="936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https://konspekta.net/infopediasu/baza2/1760788975815.files/image065.jpg"/>
          <p:cNvPicPr/>
          <p:nvPr/>
        </p:nvPicPr>
        <p:blipFill>
          <a:blip r:embed="rId3"/>
          <a:srcRect l="12114" t="26614" r="51242" b="52704"/>
          <a:stretch/>
        </p:blipFill>
        <p:spPr>
          <a:xfrm>
            <a:off x="5040360" y="3998880"/>
            <a:ext cx="1368360" cy="598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https://konspekta.net/infopediasu/baza2/1760788975815.files/image065.jpg"/>
          <p:cNvPicPr/>
          <p:nvPr/>
        </p:nvPicPr>
        <p:blipFill>
          <a:blip r:embed="rId4"/>
          <a:srcRect l="0" t="76696" r="45488" b="0"/>
          <a:stretch/>
        </p:blipFill>
        <p:spPr>
          <a:xfrm>
            <a:off x="4908600" y="4784760"/>
            <a:ext cx="1798560" cy="59544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6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808600" y="2919240"/>
            <a:ext cx="1127160" cy="6336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"/>
          <p:cNvPicPr/>
          <p:nvPr/>
        </p:nvPicPr>
        <p:blipFill>
          <a:blip r:embed="rId6">
            <a:biLevel thresh="50000"/>
          </a:blip>
          <a:stretch/>
        </p:blipFill>
        <p:spPr>
          <a:xfrm>
            <a:off x="4871880" y="5543640"/>
            <a:ext cx="1171800" cy="8683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8" descr="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6172200" y="5567400"/>
            <a:ext cx="863640" cy="9079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8" name="voltag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1476360" y="1890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557280"/>
          <a:ext cx="8569440" cy="6062760"/>
        </p:xfrm>
        <a:graphic>
          <a:graphicData uri="http://schemas.openxmlformats.org/drawingml/2006/table">
            <a:tbl>
              <a:tblPr/>
              <a:tblGrid>
                <a:gridCol w="1013040"/>
                <a:gridCol w="3271680"/>
                <a:gridCol w="2141640"/>
                <a:gridCol w="214308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ски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менты , приспособ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4240">
                <a:tc row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лес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Выбрать  заготовку под ключ 32 мм, закрепить в тиск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отрезать на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нгенциркуль, ножовка по маралу, тески, черти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Закрепить заготовку в тисках и обработать  торец (с 2-х сторо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ски , напи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Накернить центр   и сверлить сквозное отверстие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31,4 м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5 м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ски, молоток, чертилка, линейка, кернер , сверло, дрель (коловоро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Нарезать метрическую резьб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 22 н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Окончательная 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чик, вороток, уго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Рисунок 3" descr=""/>
          <p:cNvPicPr/>
          <p:nvPr/>
        </p:nvPicPr>
        <p:blipFill>
          <a:blip r:embed="rId1">
            <a:biLevel thresh="50000"/>
          </a:blip>
          <a:srcRect l="51271" t="0" r="0" b="16677"/>
          <a:stretch/>
        </p:blipFill>
        <p:spPr>
          <a:xfrm>
            <a:off x="5200560" y="1346040"/>
            <a:ext cx="1079640" cy="72072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"/>
          <p:cNvPicPr/>
          <p:nvPr/>
        </p:nvPicPr>
        <p:blipFill>
          <a:blip r:embed="rId2"/>
          <a:srcRect l="20156" t="-138" r="14324" b="48525"/>
          <a:stretch/>
        </p:blipFill>
        <p:spPr>
          <a:xfrm>
            <a:off x="4925880" y="2178000"/>
            <a:ext cx="1368720" cy="785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ttp://glavmex.ru/forum/download/file.php?id=12990"/>
          <p:cNvPicPr/>
          <p:nvPr/>
        </p:nvPicPr>
        <p:blipFill>
          <a:blip r:embed="rId3"/>
          <a:srcRect l="63000" t="12525" r="12685" b="65881"/>
          <a:stretch/>
        </p:blipFill>
        <p:spPr>
          <a:xfrm>
            <a:off x="5010120" y="3254400"/>
            <a:ext cx="1171440" cy="747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http://metallurgu.ru/books/item/f00/s00/z0000022/pic/000198.jpg"/>
          <p:cNvPicPr/>
          <p:nvPr/>
        </p:nvPicPr>
        <p:blipFill>
          <a:blip r:embed="rId4"/>
          <a:srcRect l="30679" t="60195" r="48896" b="0"/>
          <a:stretch/>
        </p:blipFill>
        <p:spPr>
          <a:xfrm>
            <a:off x="4730760" y="4327560"/>
            <a:ext cx="879480" cy="8078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5" descr=""/>
          <p:cNvPicPr/>
          <p:nvPr/>
        </p:nvPicPr>
        <p:blipFill>
          <a:blip r:embed="rId5"/>
          <a:stretch/>
        </p:blipFill>
        <p:spPr>
          <a:xfrm>
            <a:off x="5708520" y="4386240"/>
            <a:ext cx="473040" cy="690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s://cf2.ppt-online.org/files2/slide/t/tfo0KcABjTvEgIeRNLxJ61QZauX3yUC9brs2qiFHk/slide-33.jpg"/>
          <p:cNvPicPr/>
          <p:nvPr/>
        </p:nvPicPr>
        <p:blipFill>
          <a:blip r:embed="rId6"/>
          <a:srcRect l="0" t="32160" r="12282" b="13877"/>
          <a:stretch/>
        </p:blipFill>
        <p:spPr>
          <a:xfrm>
            <a:off x="4664160" y="5372280"/>
            <a:ext cx="1665360" cy="76644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7" name="voltag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2046240" y="1387440"/>
            <a:ext cx="4686480" cy="20480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2047320" y="86688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етч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98600" y="256536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ав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97880" y="19890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- лез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37120" y="149868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востов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4070160" y="95724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 нарез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6879240" y="138744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аготов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6959160" y="181296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-метч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6939360" y="2338560"/>
            <a:ext cx="12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т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Прямоугольник 1"/>
          <p:cNvSpPr/>
          <p:nvPr/>
        </p:nvSpPr>
        <p:spPr>
          <a:xfrm>
            <a:off x="2854800" y="277920"/>
            <a:ext cx="339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резание резьбы метчиком</a:t>
            </a:r>
            <a:r>
              <a:rPr b="1" lang="kk-KZ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Рисунок 2" descr=""/>
          <p:cNvPicPr/>
          <p:nvPr/>
        </p:nvPicPr>
        <p:blipFill>
          <a:blip r:embed="rId2"/>
          <a:stretch/>
        </p:blipFill>
        <p:spPr>
          <a:xfrm>
            <a:off x="2003400" y="4116240"/>
            <a:ext cx="4689360" cy="19512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443160" y="406332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плашка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6939360" y="4643280"/>
            <a:ext cx="15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отов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6974640" y="5100480"/>
            <a:ext cx="12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ш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угольник 4"/>
          <p:cNvSpPr/>
          <p:nvPr/>
        </p:nvSpPr>
        <p:spPr>
          <a:xfrm>
            <a:off x="6683040" y="5557680"/>
            <a:ext cx="24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шкодержате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5795280" y="370512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ём нарез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611280" y="518400"/>
            <a:ext cx="8064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пасности в работ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. Травмирование осколками метал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 Травмирование при работе неисправным инструмент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 начала работ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17784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деньте спецодежду (фартук с нарукавниками или халат) и головной убор (берет или косынку).Тщательно подберите волосы и заправьте концы косын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 При рубке металла наденьте оч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. Проверьте наличие инвентаря (совок, сетка, щетка для чистки напильников, сиденье, подставная решетк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. Проверьте состояние инструмента индивидуального пользования, разложите их в порядке, установленном учителем. В случае неисправности инструмента сообщите об этом учител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. Проверьте состояние верстачных тисков (губки тисков должны быть плотно привинчены, насечка не сработан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о время работ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17784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чно закрепите обрабатываемую деталь в тиска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17784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ычаг тисков опускайте плавно, чтобы не получить травму ру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 Работу выполняйте только исправными инструмент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"/>
          <p:cNvPicPr/>
          <p:nvPr/>
        </p:nvPicPr>
        <p:blipFill>
          <a:blip r:embed="rId1"/>
          <a:srcRect l="30575" t="59269" r="22541" b="6813"/>
          <a:stretch/>
        </p:blipFill>
        <p:spPr>
          <a:xfrm>
            <a:off x="933480" y="2146320"/>
            <a:ext cx="4174920" cy="194616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1017720" y="114480"/>
            <a:ext cx="5114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Verdana"/>
              </a:rPr>
              <a:t>Установ 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005 Токарная операц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Установить  заготовку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трех кулачковый патрон и закрепить длина 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 76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мм, диаметр - </a:t>
            </a: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34м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Рисунок 2" descr=""/>
          <p:cNvPicPr/>
          <p:nvPr/>
        </p:nvPicPr>
        <p:blipFill>
          <a:blip r:embed="rId2"/>
          <a:stretch/>
        </p:blipFill>
        <p:spPr>
          <a:xfrm>
            <a:off x="933480" y="4878360"/>
            <a:ext cx="5284800" cy="174960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1050840" y="4203720"/>
            <a:ext cx="62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2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Подрезать торец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 34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 на 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1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rcRect l="0" t="55013" r="13487" b="0"/>
          <a:stretch/>
        </p:blipFill>
        <p:spPr>
          <a:xfrm>
            <a:off x="1258920" y="861840"/>
            <a:ext cx="5616720" cy="2190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1979640" y="21600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3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Точить 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32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 на 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6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2"/>
          <a:srcRect l="0" t="0" r="0" b="8366"/>
          <a:stretch/>
        </p:blipFill>
        <p:spPr>
          <a:xfrm>
            <a:off x="1258920" y="4076640"/>
            <a:ext cx="568800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2012760" y="3332160"/>
            <a:ext cx="30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4</a:t>
            </a: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Точить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25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 на 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5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"/>
          <p:cNvPicPr/>
          <p:nvPr/>
        </p:nvPicPr>
        <p:blipFill>
          <a:blip r:embed="rId1"/>
          <a:srcRect l="2327" t="44866" r="14106" b="10257"/>
          <a:stretch/>
        </p:blipFill>
        <p:spPr>
          <a:xfrm>
            <a:off x="1476360" y="1319040"/>
            <a:ext cx="5184720" cy="2089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096920" y="47628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5. Точить канавку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23 на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длину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5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2"/>
          <a:stretch/>
        </p:blipFill>
        <p:spPr>
          <a:xfrm>
            <a:off x="1584360" y="4508640"/>
            <a:ext cx="4968720" cy="17240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5"/>
          <p:cNvSpPr/>
          <p:nvPr/>
        </p:nvSpPr>
        <p:spPr>
          <a:xfrm>
            <a:off x="1647360" y="3773520"/>
            <a:ext cx="25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6. Точить фаску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2x45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"/>
          <p:cNvPicPr/>
          <p:nvPr/>
        </p:nvPicPr>
        <p:blipFill>
          <a:blip r:embed="rId1"/>
          <a:srcRect l="2602" t="48609" r="15400" b="11469"/>
          <a:stretch/>
        </p:blipFill>
        <p:spPr>
          <a:xfrm>
            <a:off x="1979640" y="1492200"/>
            <a:ext cx="4535640" cy="1727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1763640" y="6206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7 Отрезать заготовку  на </a:t>
            </a: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L 66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мм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32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1547640" y="321300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Open Sans"/>
              </a:rPr>
              <a:t>Установ Б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3838"/>
                </a:solidFill>
                <a:latin typeface="Open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1 Переустановить заготовку, закрепи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Рисунок 6" descr=""/>
          <p:cNvPicPr/>
          <p:nvPr/>
        </p:nvPicPr>
        <p:blipFill>
          <a:blip r:embed="rId2"/>
          <a:stretch/>
        </p:blipFill>
        <p:spPr>
          <a:xfrm>
            <a:off x="2340000" y="4365720"/>
            <a:ext cx="3600360" cy="16812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3" name="voltag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"/>
          <p:cNvPicPr/>
          <p:nvPr/>
        </p:nvPicPr>
        <p:blipFill>
          <a:blip r:embed="rId1"/>
          <a:srcRect l="2709" t="4163" r="1126" b="54194"/>
          <a:stretch/>
        </p:blipFill>
        <p:spPr>
          <a:xfrm>
            <a:off x="1262160" y="1266840"/>
            <a:ext cx="5976720" cy="23050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1258920" y="333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2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Подрезать торец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 34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 на 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1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Рисунок 2" descr=""/>
          <p:cNvPicPr/>
          <p:nvPr/>
        </p:nvPicPr>
        <p:blipFill>
          <a:blip r:embed="rId2"/>
          <a:srcRect l="3905" t="52058" r="4988" b="2824"/>
          <a:stretch/>
        </p:blipFill>
        <p:spPr>
          <a:xfrm>
            <a:off x="1271520" y="4437000"/>
            <a:ext cx="5905440" cy="19432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2294640" y="3571920"/>
            <a:ext cx="25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3. Точить фаску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2x4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332000" y="9360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тали «Болт» и «Гайк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444600" y="977760"/>
            <a:ext cx="8591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л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— крепёжное изделие в виде стержня с наружной резьбой, как правило, с шестигранной головкой под гаечный ключ, образующее соединение при помощи гайки или иного резьбового отверст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лтом скрепляются отдельные детали с помощью навинчивания на него гайк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395280" y="393372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Гайка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 — крепёжное изделие с резьбовым отверстием, образующее соединение с помощью болт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Обычно 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гайки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 изготавливаются шестигранной формы под гаечный ключ, но могут быть и квадратными, круглыми с насечк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Рисунок 5" descr=""/>
          <p:cNvPicPr/>
          <p:nvPr/>
        </p:nvPicPr>
        <p:blipFill>
          <a:blip r:embed="rId1"/>
          <a:srcRect l="18497" t="0" r="17719" b="0"/>
          <a:stretch/>
        </p:blipFill>
        <p:spPr>
          <a:xfrm>
            <a:off x="6732720" y="4830840"/>
            <a:ext cx="1679400" cy="17604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6" descr=""/>
          <p:cNvPicPr/>
          <p:nvPr/>
        </p:nvPicPr>
        <p:blipFill>
          <a:blip r:embed="rId2"/>
          <a:srcRect l="12199" t="23757" r="12199" b="22699"/>
          <a:stretch/>
        </p:blipFill>
        <p:spPr>
          <a:xfrm>
            <a:off x="1979640" y="2219400"/>
            <a:ext cx="2160720" cy="15303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7" descr=""/>
          <p:cNvPicPr/>
          <p:nvPr/>
        </p:nvPicPr>
        <p:blipFill>
          <a:blip r:embed="rId3"/>
          <a:stretch/>
        </p:blipFill>
        <p:spPr>
          <a:xfrm>
            <a:off x="5373720" y="2313000"/>
            <a:ext cx="2717640" cy="15778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4" name="voltag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198360" y="5132520"/>
            <a:ext cx="882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Шаг резьбы (Р)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расстояние между соседними вершинами в миллиметр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ьба бывает наружной (болты, винты, шпильки) и внутренней (гайк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ьбы бываю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авым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е завинчивают по ходу часовой стрелки, 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евыми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е завинчивают против хода часовой стрелк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611280" y="404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Резьба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 в технике — чередующиеся выступы и впадины на поверхности тел вращения, расположенные по винтовой линии. Является основным элементом резьбового соедин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rcRect l="5901" t="38453" r="50002" b="19552"/>
          <a:stretch/>
        </p:blipFill>
        <p:spPr>
          <a:xfrm>
            <a:off x="1547640" y="1479600"/>
            <a:ext cx="5472360" cy="35035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voltag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>
            <a:biLevel thresh="50000"/>
          </a:blip>
          <a:srcRect l="7236" t="7385" r="6023" b="6642"/>
          <a:stretch/>
        </p:blipFill>
        <p:spPr>
          <a:xfrm>
            <a:off x="826920" y="1125360"/>
            <a:ext cx="5761080" cy="23749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1332000" y="2444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хнологический процесс изготовления  детали «Болт « и «Гайк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Рисунок 2" descr=""/>
          <p:cNvPicPr/>
          <p:nvPr/>
        </p:nvPicPr>
        <p:blipFill>
          <a:blip r:embed="rId2">
            <a:biLevel thresh="50000"/>
          </a:blip>
          <a:srcRect l="0" t="12598" r="0" b="11811"/>
          <a:stretch/>
        </p:blipFill>
        <p:spPr>
          <a:xfrm>
            <a:off x="1042920" y="4292640"/>
            <a:ext cx="5011920" cy="172872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1332000" y="36399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детали бол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187280" y="63039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скиз заготовки для деталей болт и гай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8:00:47Z</dcterms:created>
  <dc:creator>Администрация</dc:creator>
  <dc:description/>
  <dc:language>en-US</dc:language>
  <cp:lastModifiedBy>Ирина</cp:lastModifiedBy>
  <dcterms:modified xsi:type="dcterms:W3CDTF">2020-04-22T19:03:41Z</dcterms:modified>
  <cp:revision>58</cp:revision>
  <dc:subject/>
  <dc:title>Слайд 1</dc:title>
</cp:coreProperties>
</file>